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11.png" ContentType="image/png"/>
  <Override PartName="/ppt/media/chimes.wav" ContentType="audio/x-wav"/>
  <Override PartName="/ppt/media/image8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38C0-BBAE-497E-8AA4-78DE6347D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6B91-8FC3-490A-BC8D-9468C92414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449B-5587-41E6-80ED-6F5E507AAD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E56E-031B-4815-98E1-3B872B18F4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AB91-1E8D-4CE2-8C22-BBEADBEECB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16B1-CD91-4CBB-A908-349A3248D0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934A-C18B-4B42-B663-5CE8C06AB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E048-2D21-44C9-A163-FCCDD37D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BF57-E580-481C-80A2-4C9C6EAC5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0F4A-A76D-4D50-9B15-56CF10EF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A269-296C-448F-9607-9D35299B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5BCB-9798-4CDA-BCD9-9AB72969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7529-C12B-4C7A-B1A8-0E3F6816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39BA-2AE0-4FE1-A5AE-E16AA4A6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6EB0-3029-4D4E-A1ED-9AEECB90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812B-4F13-4A3A-973A-C6F4C220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E81B-1C8C-4DEA-AAA3-0007353A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3663-D834-4AF8-8A36-6ACD4F5A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4E63-5094-46B3-BD6F-ABC0BEE0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3B43-A455-4F30-802D-242F9BD1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0546-E1D9-4570-BBF7-89CF48C0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1889-9BB0-4691-A320-E2D4AB9B2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3486-74D9-4C0F-9472-B6DFF61A7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315E-5473-42B0-BB22-F283BCC6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34A3-DA9B-4DFE-ACC9-4C6B68D0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B841-AF7F-4EA8-8317-06F275C8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86D9-E0E1-461B-BB22-C32E8BC9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C59B-CB7E-404F-A11E-3B084A01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5446-BC0E-45DC-89EC-88465F78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A479-08A7-4657-826D-D2ABD278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9DED-F016-4C4F-BB40-E84078348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AA1D-246D-42D4-B37D-BA1E2C068C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nstitutional Convention ONQ #2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answer on a separate piece of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use your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863280"/>
            <a:ext cx="91440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The ______ Plan favored small states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762120" y="30481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3124080" y="49528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/>
          <p:cNvPicPr/>
          <p:nvPr/>
        </p:nvPicPr>
        <p:blipFill>
          <a:blip r:embed="rId4"/>
          <a:stretch/>
        </p:blipFill>
        <p:spPr>
          <a:xfrm>
            <a:off x="5911920" y="3048120"/>
            <a:ext cx="2771640" cy="164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863280"/>
            <a:ext cx="91440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The ______ Plan favored large states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1828800" y="2895480"/>
            <a:ext cx="5076720" cy="32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914400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When the Confederation Congress agreed to amend the Articles of Confederation what did they actually do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1781280" cy="25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914400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The ____ ________, also known as the Connecticut Plan, created a bicameral legislature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2"/>
          <a:stretch/>
        </p:blipFill>
        <p:spPr>
          <a:xfrm>
            <a:off x="2209680" y="3422520"/>
            <a:ext cx="4881600" cy="33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914400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How many original Senators would there have been according to the Constitution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3255840" cy="2438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3"/>
          <a:stretch/>
        </p:blipFill>
        <p:spPr>
          <a:xfrm>
            <a:off x="7086600" y="2589120"/>
            <a:ext cx="1689120" cy="2109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"/>
          <p:cNvPicPr/>
          <p:nvPr/>
        </p:nvPicPr>
        <p:blipFill>
          <a:blip r:embed="rId4"/>
          <a:stretch/>
        </p:blipFill>
        <p:spPr>
          <a:xfrm>
            <a:off x="4724280" y="4667400"/>
            <a:ext cx="1704960" cy="2166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2-02-06T13:20:47Z</dcterms:modified>
  <cp:revision>131</cp:revision>
  <dc:subject/>
  <dc:title>D/O: TO EXPLAIN AND IDENTIFY PROBLEMS OF ECONOMICS</dc:title>
</cp:coreProperties>
</file>